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1582-79DF-4457-9047-F80190C20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98BB-5843-4FFA-93F0-ED0E58C60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F974-EF01-4DFA-8BD7-9DA20003B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7B10-8986-4D96-BE92-6A86352EA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85570-F687-4369-8AB1-4B9A0DE57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F0D6B-E54E-46CF-895D-C03175B06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B814D-0548-40AD-9247-079321E2D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FA9BC-83E7-4389-A1D5-E31F435A3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0134D-63AA-487F-9C3F-2781B0A89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29E2E-6EBB-4861-9F32-6952DF6CD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2BA60-5228-44AE-88D2-D99ED66FA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F55A-7BD2-4C5D-80E8-45597BC1F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3B46C-036C-40E9-89B2-E6AC0616F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D50B1-A3AD-4E6A-8A84-1066ED51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E41BE-B2A9-4533-B39D-00601A6F1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34FAA-B560-490E-A119-21D093110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A109E-7F7E-46C4-9416-DF4C1A184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DE01-E46F-4B2C-8918-9C009DA1B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7633-97FA-4E0B-8D7B-2E6775C78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BBF4-93EF-430E-820B-214B18AEC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A77B-2AD4-4448-B4F5-FE8833B64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A0A4-5A01-4D5D-BDDF-038B667C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3366-0643-44F2-8E0E-AC168130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AB8B-C5F0-4A43-888F-A4D5B08E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559B3-F44B-490E-9254-AF23E7EC8F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3C3E1-D5EF-4DE3-B07D-2FE684AE0D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.uk/imgres?imgurl=http://www.docdingley.com/links/images/sports/Badminton_Extreme.jpg&amp;imgrefurl=http://www.docdingley.com/links/Sports.htm&amp;usg=__B0JPieGConJyhR1LNo2gAMKCPfU=&amp;h=430&amp;w=290&amp;sz=30&amp;hl=en&amp;start=2&amp;tbnid=5YpW2oCr62DZmM:&amp;tbnh=126&amp;tbnw=85&amp;prev=/images%3Fq%3Dbadminton%26gbv%3D2%26hl%3Den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ecff"/>
                </a:solidFill>
                <a:latin typeface="Comic Sans MS"/>
              </a:rPr>
              <a:t>Skills &amp; Technique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Lesson 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Miss Doo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419640" y="333360"/>
            <a:ext cx="2555640" cy="17924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659640" y="3500280"/>
            <a:ext cx="2484360" cy="33577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0" y="3284640"/>
            <a:ext cx="291636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Model Performe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Model performers are performers who can execute a model performance of a skill or techniqu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hey can be teacher, coach, classmate, profession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Main Characteristic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Sequences of movements are carried out in a fluent, controlled way, often with a minimum of effor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Good decision making – correct options are ma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Skills and techniques are used which reflect the performers ability and experie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benefi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Model performers can show you how to improve by giving you a picture of what you are trying to achie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t helps you to determine training prior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Watching top level performers can make you motivated to improve your performance.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Preparation, action and recovery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skills and techniques can be broken down into three phases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Breaking skills and techniques down into these three phases is an effective way of analysing skills and techniques.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2050920" y="1700280"/>
            <a:ext cx="52578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00"/>
                </a:solidFill>
                <a:latin typeface="Arial"/>
              </a:rPr>
              <a:t>STAGES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00"/>
                </a:solidFill>
                <a:latin typeface="Arial"/>
              </a:rPr>
              <a:t>OF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00"/>
                </a:solidFill>
                <a:latin typeface="Arial"/>
              </a:rPr>
              <a:t>LEARNING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Cognitive (prepar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ssociative (practi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utonomous (automati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Stages Of Learn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WHAT CHARACTERISTICS WOULD YOU EXPECT TO SEE FROM SOMEONE AT THIS STAGE OF LEARNING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ake into conside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What are you doing at this stage of learning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What is their skill level lik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Do they receive feedback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Do you make mistak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What happens when you are put under press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STAGES OF LEARN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WHAT METHODS OF PRACTICE ARE APPROPRIATE AT EACH STAGE OF LEARNING AND WH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ake into conside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What two practices you use at each sta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ake one method of practice per stage and describe it briefly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en state why you use this type of practice at this stage of learn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17:52:41Z</dcterms:created>
  <dc:creator>DooganS</dc:creator>
  <dc:description/>
  <dc:language>en-US</dc:language>
  <cp:lastModifiedBy>DooganS</cp:lastModifiedBy>
  <dcterms:modified xsi:type="dcterms:W3CDTF">2009-12-01T08:31:31Z</dcterms:modified>
  <cp:revision>4</cp:revision>
  <dc:subject/>
  <dc:title>Skills &amp; Techniques</dc:title>
</cp:coreProperties>
</file>